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D8C-011D-4AE0-ABF0-88DC649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573-6937-4688-9467-B8EC5E1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486-FE1E-4483-A771-8AA036BF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064-8031-4955-AE73-7D05711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8B7-E48F-4EA5-ACD9-E6DD61D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3A1-F515-43CD-85E8-2BEA8D3C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0FD-B0A0-4923-A960-DA13C37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2A0-5D66-4BF0-974D-B213EF5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D23-382E-4C1F-B079-64F87377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E5E-D535-4718-9F1A-C61D1EF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B12-9B75-44C7-98A9-55C3B32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059-014C-4F2A-A96C-45F24B5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3F6E-27CC-495F-8B97-D0C7D7DC2C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Kiosk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Yes you are in Kiosk mod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On click still works thoug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But the keyboard doesn'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Nor does the mouse wh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Click the NEXT button for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ction Button: Forward or Next 5">
            <a:hlinkClick r:id="" action="ppaction://hlinkshowjump?jump=nextslide"/>
          </p:cNvPr>
          <p:cNvSpPr/>
          <p:nvPr/>
        </p:nvSpPr>
        <p:spPr>
          <a:xfrm>
            <a:off x="7429680" y="6286680"/>
            <a:ext cx="1143000" cy="428400"/>
          </a:xfrm>
          <a:custGeom>
            <a:avLst/>
            <a:gdLst>
              <a:gd name="textAreaLeft" fmla="*/ 27720 w 1143000"/>
              <a:gd name="textAreaRight" fmla="*/ 1115280 w 11430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3794"/>
                </a:moveTo>
                <a:lnTo>
                  <a:pt x="35806" y="10800"/>
                </a:lnTo>
                <a:lnTo>
                  <a:pt x="21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Next Slid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3:05:28Z</dcterms:created>
  <dc:creator>John Wilson</dc:creator>
  <dc:description/>
  <dc:language>en-US</dc:language>
  <cp:lastModifiedBy>John Wilson</cp:lastModifiedBy>
  <dcterms:modified xsi:type="dcterms:W3CDTF">2008-03-06T13:10:16Z</dcterms:modified>
  <cp:revision>1</cp:revision>
  <dc:subject/>
  <dc:title>Kiosk Mode</dc:title>
</cp:coreProperties>
</file>